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E14-CBDE-4933-A38F-0493188D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D32-5865-4AA6-8BC1-BA20F2B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E55-8520-4430-9B73-C8E3C09B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6B9-1261-48A9-98B3-493C3CBF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556-406A-4851-B4B2-4BDE59F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247-E36D-4BE2-AB63-484EFBA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639-9DDE-4361-B96B-1613E48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170-BA2D-45AD-AE4F-CA7B3FA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566-22BB-4760-B2DA-C637B95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AEC-A7E1-4621-A2DC-A383548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A1F-44EE-464B-BB11-8EBCF7D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DA5-24B7-47D4-90A3-E61381D5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6735-D8E0-4765-8DEF-0A92E5D8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90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after German U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0:43:08Z</dcterms:created>
  <dc:creator>Greg Peters</dc:creator>
  <dc:description/>
  <dc:language>en-US</dc:language>
  <cp:lastModifiedBy>Greg Peters</cp:lastModifiedBy>
  <dcterms:modified xsi:type="dcterms:W3CDTF">2010-03-30T10:59:38Z</dcterms:modified>
  <cp:revision>2</cp:revision>
  <dc:subject/>
  <dc:title>Slide 1</dc:title>
</cp:coreProperties>
</file>